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C46-9607-44A8-9FA0-B1ED7902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AFF-A555-4C82-BA6E-62186681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9CA-ADAE-4D13-8450-454A7A3F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59D-B9F9-4F84-8730-872F4B77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2BD-B220-4523-9D43-C7D3D75F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5AF-1840-4E25-9BDE-A44437FB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430-4680-477D-98FF-37E508C9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5DB-DF06-43D5-A923-E1E17D61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C29-139B-4287-8D97-FFCFD7E8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E3B-7DF3-4176-BA81-75253FB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5D8-3118-4A10-BDE3-97EBE649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1BB-3F66-4E93-95CD-7770EF8C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1756-989A-4401-AC62-1B18477A2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respH" TargetMode="External"/><Relationship Id="rId3" Type="http://schemas.microsoft.com/office/2007/relationships/media" Target="file:///tmp/home/.config/libreoffice/4/user/gallery/respH" TargetMode="External"/><Relationship Id="rId4" Type="http://schemas.openxmlformats.org/officeDocument/2006/relationships/image" Target="../media/image2.png"/><Relationship Id="rId5" Type="http://schemas.openxmlformats.org/officeDocument/2006/relationships/video" Target="file:///tmp/home/.config/libreoffice/4/user/gallery/resH" TargetMode="External"/><Relationship Id="rId6" Type="http://schemas.microsoft.com/office/2007/relationships/media" Target="file:///tmp/home/.config/libreoffice/4/user/gallery/resH" TargetMode="External"/><Relationship Id="rId7" Type="http://schemas.openxmlformats.org/officeDocument/2006/relationships/image" Target="../media/image2.png"/><Relationship Id="rId8" Type="http://schemas.openxmlformats.org/officeDocument/2006/relationships/video" Target="file:///tmp/home/.config/libreoffice/4/user/gallery/hall" TargetMode="External"/><Relationship Id="rId9" Type="http://schemas.microsoft.com/office/2007/relationships/media" Target="file:///tmp/home/.config/libreoffice/4/user/gallery/hall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82120" cy="582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05740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28954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3048120" y="4800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1"/>
          <a:stretch/>
        </p:blipFill>
        <p:spPr>
          <a:xfrm>
            <a:off x="22096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7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6:10:01Z</dcterms:created>
  <dc:creator>candiceaustin</dc:creator>
  <dc:description/>
  <dc:language>en-US</dc:language>
  <cp:lastModifiedBy>392-student</cp:lastModifiedBy>
  <dcterms:modified xsi:type="dcterms:W3CDTF">2009-10-07T14:00:43Z</dcterms:modified>
  <cp:revision>4</cp:revision>
  <dc:subject/>
  <dc:title>Slide 1</dc:title>
</cp:coreProperties>
</file>